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08E-F582-4E8F-B3C3-4FAB25C0D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441-C3F2-4B04-AE01-2AA495A782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E01-CD29-4BEF-84FD-C67B2CD6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47C-7155-4EEF-BCC7-AB018C2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9CF-F069-43E6-A20A-74DAF445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B74-A9F3-4915-995C-098EF99C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3ED5-FE54-4F1D-B08C-4D1BF2B0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A95F-5662-4661-BD6C-3F53102C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933-757F-4183-8B35-90D1752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0580-ADAE-41FA-AEC0-6E84E3E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A44D-D109-441C-AB97-8C3D902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BA16-6A3E-4CAE-A433-7E06CF63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CC5-B9C2-4355-B991-0DED57B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DEF-2F68-4A23-B23D-07AA8F23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03A1-E614-47E8-9A34-A64DB26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0E0-34BF-4449-9CE4-E7DB525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DB5-3D92-4DB2-8DC1-51C54CCE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212C-CBD8-4825-B5B1-CF850D77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3F8-F1C2-47A0-B604-3D13EF7E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BB85-36F7-49E3-B081-1E17109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5D41-BB6B-4578-B15F-F2082E6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DFC4-AE88-40FB-817E-7A19F41F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257C-CD39-4BC6-B6DF-18743844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82A2-1169-464C-87BD-96735CFD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47C-8CB4-45A1-9238-0868142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5DD9-BB6D-46F5-B0E5-B941514C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0458-E12F-4D63-9F2A-55299DE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A41D-9AC5-4854-A26E-0AFA2DF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7D00-7688-4185-9601-5B115AA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624B-2B88-4DF3-B882-2D248BA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2C45-26D7-4E4F-9ADB-AE2A426A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6958-FAD7-4B9A-A931-B0A308E4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038C-3B80-46A1-8A10-FE097AD0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BB4C-2101-4D99-B809-39DCF82E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0CDF-980C-4BC9-9DE5-35DC5BEB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8DE-78C7-4DA8-9742-08B2E0C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8331-10C1-439E-B294-392800A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51F6-56DF-425B-93B0-2D05398B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74A0-C747-4587-95E8-52D5790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47BE-5E20-4575-BE4E-1252B63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F3E2-3BC5-4645-A973-984732A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FD3D-F0EB-4554-B79A-B075046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DA70-F458-42B7-BE8E-B07F5D8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49B4-B326-4032-9B06-C2BED4BD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1CB8-3698-4B33-9F54-A7B53355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F1E5-E7E0-411A-B50B-FF6551D3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D69-8D59-49DC-8203-CFCB631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5717-7728-474E-9E60-6EFC780D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D16B-03B5-414B-8A2E-91E3B9B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E4DC-20F6-4138-AC10-66633217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DF35-29E0-4435-A1C0-A11FABA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7B2A-3F77-49A1-ACE1-0EE2D78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4B800-C4F8-4AD4-94A7-379EF68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9B19-A909-4001-A8A9-2221D7D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857F-1DDA-49D9-AC5E-C2955A1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84E8-6882-43CC-BFB5-7183302A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9271-93A1-43AB-AA99-D0C7B746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721-1546-4850-BD06-40DCDC6F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DD39-05AD-4F76-BAA1-375E0D51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43F7-BFC5-44C5-961F-4A74FE61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FF8C-05F1-41CF-B2FE-E576879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130A-9D10-4915-95A9-45B8418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46967-0AB4-44EC-AC94-E0B5A80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9D53-5A25-490D-8761-D63B5F69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47F0-E8F7-45F1-98A8-49005F9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EFFA1-9CB9-4B89-8BF3-70F8A32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C77B-A86A-4D5D-9285-2C98E11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3B40-FF78-4520-851F-39E15AC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959-5099-4BA2-8CBA-327C8E9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62CE-5983-41AC-8387-177C90E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F307-5D0B-4646-9446-42B1CC17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9AEC-0464-4966-9CD2-65A0752A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F72B5-EE81-4A80-8825-270212FE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B558D-A638-405F-B6DD-B94989F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0B9A-04FD-4B66-9941-4A5B4C7B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2B0DE-4342-4552-A1F8-E8AD0D8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E6C5-8B0D-4F81-A94A-FAB63B7D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F107-1D15-4F45-A8BE-C081045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2791-7363-4275-AA28-B2E9458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DDC-80E8-4E87-9AB4-3C6CC21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DC18E-7F88-40D1-8B1B-67D14AD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92C3-2E84-4ECE-AB5B-02EB2B1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B851-8370-42D0-98EA-9EFC2F7E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E8453-C45C-4938-BA9F-EE91C9B7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DE43-A036-4AA7-B7D8-6BDB1887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823EC-A010-40A2-AC79-C63CE06C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F5302-8855-4863-8B65-094D4C1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0388-D0A0-4338-9E43-E5EA9BD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B3DD-1EAB-43B1-BECF-FF0F3BB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2CA3-3174-40C5-80DC-DBC4329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55F-7206-485B-8785-958EB6D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F856-8EBA-4901-91DB-FB09063A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984B5-4068-4ACD-BDCA-F1CD7BD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BC734-4EF0-4A3E-9FB8-8928D78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BB77-D26B-4CE8-BA27-C03E436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9411-28E2-49BD-AEF3-DE641A0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972EA-0486-4CF2-8996-174565AA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FCDE-4C98-4926-B551-3624E286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85B5-CF37-4355-874F-C9804E19FD6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9317-5FB8-45C7-8988-A6C58592990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90A2-3882-492D-A4C0-4B501E3F4B0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031-5F65-4CF7-9943-A7364CB8355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304D-1BE0-43DE-B702-CE1A7D8416A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184-7C75-418B-B770-72169BE2CB2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54D-909A-49C9-A688-1F492E5F6F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2DC-1D71-4C07-BC79-FD1F0528EC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 Katelyn J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luto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ron is Pluto's only known satelli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rc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rcury is the closest planet to the Su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a small plane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 is no life there, because, it is so ho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rk side is very  col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0" name="Picture 5" descr="C:\Documents and Settings\JonesK\Local Settings\Temporary Internet Files\Content.IE5\0ZAFKNMI\MC900083151[1].wmf"/>
          <p:cNvPicPr/>
          <p:nvPr/>
        </p:nvPicPr>
        <p:blipFill>
          <a:blip r:embed="rId1"/>
          <a:stretch/>
        </p:blipFill>
        <p:spPr>
          <a:xfrm>
            <a:off x="4876920" y="2362320"/>
            <a:ext cx="3544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enus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the same size as the earth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r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enus is made of carbon Dioxi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5" descr="C:\Documents and Settings\JonesK\Local Settings\Temporary Internet Files\Content.IE5\EO1L7N1R\MC900083159[1].wmf"/>
          <p:cNvPicPr/>
          <p:nvPr/>
        </p:nvPicPr>
        <p:blipFill>
          <a:blip r:embed="rId1"/>
          <a:stretch/>
        </p:blipFill>
        <p:spPr>
          <a:xfrm>
            <a:off x="4648320" y="1971720"/>
            <a:ext cx="3962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arth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ur home pla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rth is the same size as Venu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the only planet that has living thing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Earth is around 4.6 billion years old acording to scientis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 or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6" descr="C:\Documents and Settings\JonesK\Local Settings\Temporary Internet Files\Content.IE5\8XMWAQNB\MC900432569[1].png"/>
          <p:cNvPicPr/>
          <p:nvPr/>
        </p:nvPicPr>
        <p:blipFill>
          <a:blip r:embed="rId1"/>
          <a:stretch/>
        </p:blipFill>
        <p:spPr>
          <a:xfrm>
            <a:off x="4952880" y="1938240"/>
            <a:ext cx="3810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rs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cientists have just found that water is on Ma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Known as the red planet Mars is characterized by it’s dusty landscap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rs is 35 million miles from Eart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Picture 5" descr="C:\Documents and Settings\JonesK\Local Settings\Temporary Internet Files\Content.IE5\SB2103ZJ\MC900083153[1].wmf"/>
          <p:cNvPicPr/>
          <p:nvPr/>
        </p:nvPicPr>
        <p:blipFill>
          <a:blip r:embed="rId1"/>
          <a:stretch/>
        </p:blipFill>
        <p:spPr>
          <a:xfrm>
            <a:off x="4660920" y="2073240"/>
            <a:ext cx="4102200" cy="4327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Jupit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157a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157a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2458800"/>
            <a:ext cx="40402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piter’s four largest moons are named Io,Europa,Ganymede,and Callist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piter’s rings were discovered by Voyager 1 in 1979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large red spot on Jupiter is actully from a storm that has lasted over 300 years.       planet facts.org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8" name="Picture 7" descr="C:\Documents and Settings\JonesK\Local Settings\Temporary Internet Files\Content.IE5\SB2103ZJ\MC900083163[1].wmf"/>
          <p:cNvPicPr/>
          <p:nvPr/>
        </p:nvPicPr>
        <p:blipFill>
          <a:blip r:embed="rId1"/>
          <a:stretch/>
        </p:blipFill>
        <p:spPr>
          <a:xfrm>
            <a:off x="4559400" y="2895480"/>
            <a:ext cx="41241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aturn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56240" y="1770120"/>
            <a:ext cx="40384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aturn is flattened at the poles,due to a fast rotation on it’s ax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aturn is the sixth planet from the Sun and the second larg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year on Saturn is equal to 29.5 Earth years’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2" name="Picture 6" descr="C:\Documents and Settings\JonesK\Local Settings\Temporary Internet Files\Content.IE5\EO1L7N1R\MC900083161[1].wmf"/>
          <p:cNvPicPr/>
          <p:nvPr/>
        </p:nvPicPr>
        <p:blipFill>
          <a:blip r:embed="rId1"/>
          <a:stretch/>
        </p:blipFill>
        <p:spPr>
          <a:xfrm>
            <a:off x="4800600" y="2362320"/>
            <a:ext cx="3886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Uranus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ranus is the third largest planet in the Solar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planet is the second least dense after Satur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day on Uranus is equal to a little more than 17 hours on Eart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6" name="Picture 5" descr="C:\Documents and Settings\JonesK\Local Settings\Temporary Internet Files\Content.IE5\EO1L7N1R\MC900083169[1].wmf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Neptune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fourth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largest planet in th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ar Syste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Roman mythology,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god of the se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eptune is the farthest planet from the Su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lanetfacts.or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0" name="Picture 7" descr="C:\Documents and Settings\JonesK\Local Settings\Temporary Internet Files\Content.IE5\EO1L7N1R\MC900083167[1].wmf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Katelyn Jones</cp:lastModifiedBy>
  <dcterms:modified xsi:type="dcterms:W3CDTF">2013-10-30T13:11:33Z</dcterms:modified>
  <cp:revision>23</cp:revision>
  <dc:subject/>
  <dc:title>The Planets</dc:title>
</cp:coreProperties>
</file>